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39E-A6FA-4428-9CA9-7BB6AF01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1BA-F9C2-4282-821F-E07E2773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38A30-5F60-41E4-BF12-1ADE9CC6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204F8-65F2-41EB-8AC5-1CBE9BA4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6E5C4-977D-4ABE-9F8B-7F4EF918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B46C-3B26-4143-A18C-BBCC6BBA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EAA12-7ADA-4270-BD50-911BA1F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D4321-D066-4BA7-B87C-AA45538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5AA1B-8544-47F1-AAEC-2A59C80F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A19C9-3852-44A7-80D7-5A879BC3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7C5D4-3AA4-4C1B-8172-BDA2990F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0FEF4-84AD-47E1-9BF5-870347D3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1E1-3C97-4A7A-B1C5-39EE9408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2BE0F-471F-4540-AE4F-FA70915B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7DCB4-9FE6-4C6F-87C5-F0B7FB0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39BB5-4558-4F7D-BEA7-9DE9E912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27D4F-2822-44E4-9701-8B7E2009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6EACF-CCA3-48F3-B4D0-B08A8581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576A9-42A2-4607-9E6B-917FD49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321C5-385B-4026-B7AF-5884D6E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A0D46-F2BF-4919-A9F0-87BB97B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E9289-03D3-4F9E-8D67-5DBABAD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B6665-7F13-44EB-86DF-F8750665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D20-DB25-492E-8695-7A8A9AB7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2FB6D-DF02-41EF-9779-54975952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345C-F15E-4736-B5C3-913C2C18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3E268-4C7A-4A6E-9C8C-D0DEA748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774A1-B8D4-4D6D-817B-F01AA645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1DE9E-7167-40E9-A822-8D9028C7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7F80C-803A-41A0-AD17-C6827D4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719DC-9BDF-4909-97E6-552BC165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48BAC-04FF-40E9-99BD-A67909E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CE78F-C910-441D-B92C-EE3AE0F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F790-F085-4833-8116-2629DC4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628-0791-4C28-BF83-6F789F38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0408F-CA8A-42FA-9C72-5DC151A0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AA806-D87A-4709-ADC1-C92BFE0B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591AE-AC04-467E-B706-DF9D9E72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20D60-2D5B-4964-8275-3227569C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D5415-7783-4AEF-85EA-7AACB3C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366F8-4F21-4727-80FB-FDA3E33F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0933A-61DE-4E58-A82A-76CB7C9A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A5F3E-19D6-43FB-9FFA-4DCB6F9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F1575-A551-4FC1-BFB2-6E29EEC1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FFB70-BFE8-4565-89DD-C6938CD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F166-82AA-4BDD-8B06-6D5DB11E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40047-6A06-483F-A83E-D827527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FB8C3-4BC0-4A7C-9C76-1320C75C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FEAD3-A084-47D1-8C6A-E1CB92D8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F0E93-9A8D-45BF-9140-664897D8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A8CDF-7D07-41AF-971F-37FE21A7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2A5E8-BEDA-4E67-B86C-0AA3CBAB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7BC08-13FA-49AF-939C-70EA65D9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DC76F-F000-450A-9B3A-BF5D5034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698E5-9285-456C-868A-FC6B6C17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94B06-A4E7-4F67-83FA-35F080DD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FAE-8423-4B36-865E-162EA856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EAD59-DE57-4C9A-B654-AE388B4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1C976-E32A-4E1A-8532-F51B928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44C5B-D15D-450D-9997-7317782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96056-05D7-4BE9-AC13-53F6477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9F78A-1030-4899-84C0-7E695D1C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162C8-F441-49E9-859E-A0C7FCF1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63C16-219B-4EF9-AF3B-BCBDACED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7E676-BFBF-4A07-8394-F30DFCA6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B2EEA-ADC4-4524-AD9C-60BF23EE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BAC63-288E-4FAA-8BDD-EA325CB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4B5A-3666-4A7B-A2A6-CF80D70F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634DC-A724-431E-98DF-09651923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6509F-C6D9-481B-AD0E-5F60F1C7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A2E02-E608-46ED-BBAD-B2C28938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19C64-8A1D-46DC-A482-2D4B4443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3F440-AE38-4788-ADE1-189EC934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D0ABF-6C6C-4DAE-8EC3-EBF3AA7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FF4CF-E4A1-4A20-BFFE-A9E9DD6C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A2EA8-A745-4BF1-9B45-1D29BA57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2A877-C4E1-475D-B446-C3D7965D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35AE3-DEDB-4CAB-9BC7-B4BD3B42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F0E3-72A6-412A-85CA-EF91FE2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1B92E-3A6F-441E-A02E-974C91D5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07303-ABD6-4694-83CD-DC19C72F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20884-B40C-4FBF-A7DD-54EC184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D13C8-34B8-4CA0-831C-CDE1D7C0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0B108-4E69-4E75-86E7-D8C6464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FA8B7-5F13-4293-8A28-DBCCEC8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BE9CE-9347-4F95-B594-0065DFD2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D7F44-C074-4240-85E6-CF28267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FF83E-5CA7-4F90-B728-CBBD4D8F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55D82-74CE-44C8-A1AA-F3529643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AE28-8B6E-435F-AF20-5FA66AFC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C6745-0EC2-476F-8697-980BE0F8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49CCD-CD15-43D5-A75E-362753FA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6BC6C-78C0-41BB-B7B8-A2FE0C2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E2005-4324-47AA-98A9-2C94E960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CC027-27A0-4480-9285-9C15F91D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27C18-A4DC-4FEB-8FA6-352FD73E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68297-2BA9-4FDE-834F-E91599CA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CD022-377F-4098-8F44-ED2B511E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58441-92E9-4306-AE6F-872FA71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6AAD5-D0E1-4FDF-9735-B9FD4D9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3FE9-046B-4406-95CB-F5337E5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89A32-775D-4889-9CA9-94F45BD1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35E2F-BFA8-4A98-A602-157FC356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5B63F-C767-443D-816B-341D8855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E30847-61E3-4E98-B689-D0E73C23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61630-CE0C-47E2-9127-B80CCE3B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E00A8-61C0-4ECB-A4D6-54CA1BCB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85F7F-692B-48A2-A090-E5FE80A1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B01EE-B145-4E86-8837-42008144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C2B42-4475-440D-B563-7A7D5C2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72A41-4150-4882-AC4E-FFC67478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990-CD35-4DC8-8A6F-98083B9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2FD3-9F7E-45C0-AED8-26307DE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8E79F-1FD1-4755-A35D-D2F91407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FA833-8F9A-4F58-AE52-5F628E5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A5A87-BDF6-451E-B522-1002A68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E750D-4D73-4AC5-8D5A-C055891E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3949B-ED6F-4F04-B577-EF306E40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60030-B0BF-4677-AAC5-5A3A3C3F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D2500-AABF-4D65-AB3C-F712E9EE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773F7-144F-4B03-B8C2-80D24EC6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85644-0DF5-4C90-A36F-F0768BC7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99C2E-B39F-47EB-8CFA-87CCA57A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D28-EA24-4AF8-AE74-BEC227C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1F834-E9F6-4A10-AEF3-EDB265A7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7B2353-01D4-46AE-A2FD-03A238A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5BB6E-1EB8-4134-8F9D-7AF6487B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335589-84B3-4465-868E-C4BCFF4B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18106-F9E1-4EBF-9022-8DC2C8A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8634F-56D9-459D-9BBA-4135AE1E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DC2B4-B2AD-4D31-9D24-7B1524A2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D222A-F815-475B-A9DD-6A661C56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C4D18-B82F-4C27-9B93-27DDC88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FD891-72BA-4158-BBCC-37263EA3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648C-1354-494B-8B1A-14856CBB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B23C1-01A6-4A1D-B3FF-9EEE8338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CA17A6-B32C-46CF-93AE-8AA9688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CCC0B-2A29-487C-A6F6-33EC0B75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00518-E3DF-4C08-AB18-89E2C56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D23E1-9A79-428E-B5BC-3B2EF58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47CC65-43D9-4349-996A-C3D6867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7474E-570A-4005-85A2-868136A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58C4A-8D5F-4279-978B-A5BA109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47810-3F1B-4240-9324-C4B7966A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93848-1809-4BB8-B240-C129F6B8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BF1-2CF4-454E-BEE7-A5B227D7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1A70E-ADC6-4290-A81D-4DB562D6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189CAC-BC67-497D-BF3D-CF9CB8B8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E1817-1214-49AB-BB0A-9B57B98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62333-28C9-459A-A8AE-D504ABE6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E882C-C175-437C-A3EA-A0CD858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66B3D-B0E0-4004-9516-B4B3F79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A0636-09E3-40A8-A0F1-48541EF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C1A57-847C-4E69-B985-A2859C8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63C7D-D250-4837-9AEE-E9558DA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26D48-7B30-4DDB-B107-76D9CDAD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6C87-A578-49FF-BCA4-288C8DCF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1EC54-6155-47BC-8041-E913A386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4B8BFD-AC90-4A1C-BE1E-9A32F386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B6A57-3D1D-4450-8403-28FDE57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C0225-9177-435E-91F6-F0FEF8CC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15D548-AF09-4FA1-AA83-B98C1C0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04DE3-F62A-46FF-BE96-E12B773F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34CD0-0E2D-453B-8565-28570321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F99D2-0D3C-432D-8007-F3E707E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1B6C3-AA51-42CD-AB06-61942E6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BD9F6-B2F7-45F2-B66C-BF7160B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A278-D51F-42D0-834D-8A28D28F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8BDB9E-5646-4BCF-B205-1D79711C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AAFED-538C-4265-BF2F-A2826EAD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CA5BC-B063-40A8-BD78-9C59E076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8F3BE9-6E1C-4DE8-92E4-5675AB0A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C4DA9-7BFC-48BD-9FEF-E2A6FDCD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50BDDF-8F46-443B-AA9B-0ED7CF88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44A827-55D9-4C0D-B31E-44D9E0A3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02C3A-E28C-4FE5-9571-C9915C3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C3929-3E12-490D-824E-B5C4C394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2CDE9D-B172-43AE-99F0-C0E6E0F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3F16-6962-4F3D-A62A-06FC052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8FDC5E-7213-45D1-BC28-0A47288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4BED0-B22F-41AA-8D3D-2DF9E10A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8173F-B572-48CB-8971-72B3DF3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1ABA5-027B-4712-82DE-4B129175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3ED3C-EADA-46C1-90B7-60B263AB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7D3A1-3427-49C3-9F22-7E4CFC6C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906B2-B57B-4C1F-82EF-B79121A1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15D20-12B0-463D-937F-A2EC3EBD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84DB18-325A-4A52-A15F-D2B2F98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5BB2CB-30BF-405C-B15A-62C364FB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05EC-6188-4435-BCEA-299F67E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FD724D-C891-4FFE-B580-6799BCE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8D00E-0F12-4620-8C16-E24B93D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2AA33-06B7-41F0-A55F-90CD1CF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A99143-73FF-40F1-ADC9-39D856C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AC1C46-D823-413C-B5BA-BF2D065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2403C-EFCE-4BB3-8362-5104D569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1A3CB6-30E0-4B69-A042-C80E9363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4179-962A-4494-B4D4-4CA070A4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45EA-FEE3-47CA-87F6-DFC70BC3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FEA-87F4-4EF3-825A-D143A77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833E-2C64-436C-A2CC-38DF7EE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595B-A5D8-4061-A9D3-1CB6DEC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DF9E-04B4-4AC3-9D7C-DBD8A4D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CAC1-7465-41D9-82CC-20A9DC4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3375-A3F2-489B-B2A8-F34927BE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80B9-607E-46BC-AC98-817A67F6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B7D1-987D-4278-9F66-A5B60806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5F47-2AE1-4AED-9D28-C7B18637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6B75-8F82-4B4D-B277-9F577D5A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5A9C-F071-4A9F-B639-129242AC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77E-06EA-4B55-88E6-5186E1D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0684-B32C-4E92-9E82-CB506939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F879-24E2-486A-8BBE-FA9DC709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3CA3-65EB-4EBD-B663-2CC34748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3756-251D-4BA4-A1B6-12E8DC3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AA2C-73F4-45DD-8EFB-7308FEE3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1CE9-0F99-479A-889A-4670E618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7F16-64CF-4157-B1E8-2318AC1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7121-80D6-4233-88C2-B84BD82E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3C9E0-F00F-4B41-850D-4D47ED84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CAFF-790E-4A59-987A-713CC5DE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27E-9984-42C2-B47B-EE7ADD04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2FC8-777E-49CE-AEA2-DB99FCC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2755-F24F-475A-A042-465DEE6B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CDA5-7165-4FCA-8A05-9F652B75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B990-EE5A-4CE4-AB83-7053FAB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204B-C58E-44B1-B477-CF319FB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811D-BF1E-4879-9F18-B52FA074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9283-72D0-48A9-94AE-133B24E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2726-6AB0-45D3-A21A-3E41C78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DA9A-FF5F-492D-9315-37842A4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0BCC-8F47-4677-80DC-DB12D8B5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674-8F3B-423B-9E61-6DDADF88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A816-390E-461F-BF4D-38D20631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7FE46-C6F2-4A85-9A89-87E8F054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88B9A-5B92-4243-B05B-B18313A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E9DA0-9978-4B90-9CA6-37A897F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F689-4671-4F7E-9D62-C5D742A3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F6DCC-985A-42AE-BE95-93F89A43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C4A4-0B86-4E56-9106-CC4AF091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8611C-BC64-4C65-8130-458E78DD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E67E4-06BC-4CB7-8502-67836D80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1DF5B-55F0-4F37-9AAE-9F85EC00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CB7-7459-4239-BA5B-0E42E88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E89C-56AE-4F34-AC41-FEF32E16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6BE1-B0CC-42B7-825D-D85CD0BF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B7ABA-4BB0-4C73-B095-B602DBE7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932B-CBD7-4B16-AA58-8A762F3B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7FF6-D4C4-4F9F-AF5C-D5CBAFC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AD1F-31B6-49E2-B9CE-3F29B511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FB27D-B91D-491D-B824-A20245A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A7CC9-5096-46B0-80B2-720BE6B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4AB8-5516-47CD-9D23-5F3F470B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6F0FE-D93A-4115-B6A2-A581E95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3C8-3A4F-4819-8FF3-6B5E7BA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D6C6-EE30-4904-83A5-237971F1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014F3-4244-4E39-9A44-9AE26CB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4B982-BC84-4187-A27A-4DE51006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B64EF-5DFC-46AC-8766-167EF82A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66B8-E297-4503-8ECC-336FE3A6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4506-68CB-4371-8E6F-76A13A48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39C24-0EAC-4B3B-832D-DE69EE9B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E9F3-5C3C-4ED6-A862-3495D0F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1EE8-BCB3-44F3-AC34-BD2078C8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94BCE-C636-4A8F-952D-745C00F1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0EB-2896-427C-8E66-8FF7E61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AD6A-425D-4E19-A05B-F6B6321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C0FD2-506A-4964-8F39-A21718E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7FC87-93F3-4A9B-8C73-8D3CEDD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D3C29-02F4-41A5-9424-1B59BBB8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9A55-E626-4D32-8750-4CB18CC4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13749-4057-4088-9799-4E902BBC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8CE96-8CEC-4B5F-9A06-6B965CCE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E6AAE-089F-4C23-B83E-721CC369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07B7E-00D3-4A2F-9F19-5D8AB24C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28C45-50D3-49C4-B333-13DC813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6274-95FC-4BCF-92E7-7794EEB6B9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234E-C02B-4B11-ACD5-BFD466B96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7F2-2FC1-46D7-ACD0-54C227EC3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25E-036B-4875-BCD9-544ABDDC0D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E0B3-D306-4B9B-94D5-A2766999C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48B6-1673-43E6-BDA3-113C370914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9E7-3205-492A-B59A-BEE270DD3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BB12-CEC3-4A16-BED4-BB9D4D0B7D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C008-3C3B-494F-AA49-D5787D1FF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305E-0358-4141-900D-1430D53D2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73A0-2A22-47B4-A56E-CE0FE5E06F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0B18-5F2E-455A-BD82-1CE463171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A69F-4D8E-4CB3-95A1-EBCAAC2BA9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4CFD-D9A6-4911-BB80-DBC58F5C3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84FC-2389-4F5A-8EC1-9AD64B94F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713-D9AE-44DC-90AB-0563CC7FB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AE61-3200-43A9-BF0C-73DF9A2AA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B5B-039D-497D-8E52-EE0BB9B97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A454-7FB9-4ACE-B094-E9FD2BEA4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9B05-BDFC-4903-B568-4137FFDB3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A262-AE90-43AF-ABE4-C5615554EF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5B95-5AB4-44E5-88A3-0F2EDEDFAB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9299-B116-4A21-B7C7-9862319C9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450E-7616-4474-808C-27A49B34B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E85F-1620-4BFD-A281-557E4E6707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788-0E61-4577-BAB4-B62F043119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6F2-CA54-4CC3-A56B-E28B6F5B22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A1A-BD56-4A1C-910C-2DCBA922A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6809-BA84-43F1-B347-B7D72A366D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E18C-4E87-4F91-9943-2D0254D57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8569-BBD9-472E-B62F-EE9D81742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F60-19D3-4D64-A7BC-DEFBA1D62F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A522-F921-4E38-9EFE-D695789787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0CC-9933-468F-BC54-7C3FDBAC5C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A58-DEB0-487C-B5B3-27C5CD49A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A73-BDB9-4E35-9505-37CB4B9DC2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3EF8-3DE0-48D5-A895-C1F11FA0A6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3A2B-68D8-45B6-8B8C-DFDE79D8C3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3543-60A0-4DF0-BF2F-1FACE0C84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C4D0-02E2-42F6-80DD-CD72282C5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A27E-431A-4CED-A42E-3D939CB1E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825-571F-4BF7-B4C5-0FABC0583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887480" y="1523880"/>
            <a:ext cx="5676840" cy="139068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123840" y="3598920"/>
            <a:ext cx="8896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309600" y="866880"/>
            <a:ext cx="8524800" cy="51242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262320" y="29383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2757600" y="450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3246480" y="450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4975200" y="4508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2757600" y="50418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3246480" y="50418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5378400" y="2736720"/>
            <a:ext cx="10508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9"/>
          <a:stretch/>
        </p:blipFill>
        <p:spPr>
          <a:xfrm>
            <a:off x="5076720" y="357336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0"/>
          <a:stretch/>
        </p:blipFill>
        <p:spPr>
          <a:xfrm>
            <a:off x="3635280" y="1944720"/>
            <a:ext cx="1051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14200" y="2119320"/>
            <a:ext cx="8715600" cy="2619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2916360" y="39909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730872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524720" y="399096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04720" y="1019160"/>
            <a:ext cx="8134560" cy="4819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158920" cy="3168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2843280" y="1989000"/>
            <a:ext cx="15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7364520" y="1989000"/>
            <a:ext cx="151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14440" y="824040"/>
            <a:ext cx="8115120" cy="5209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2879640" cy="4537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987640" y="108108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48360" y="1873080"/>
            <a:ext cx="2879640" cy="4537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020000" y="1109520"/>
            <a:ext cx="143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76040" y="1333440"/>
            <a:ext cx="8791920" cy="4191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971640" y="4797360"/>
            <a:ext cx="612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7960" y="866880"/>
            <a:ext cx="8668080" cy="5124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00000" y="36306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55640" y="4422600"/>
            <a:ext cx="8064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00160" y="1123920"/>
            <a:ext cx="8743680" cy="49528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755640" y="38750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826920" y="5516640"/>
            <a:ext cx="468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3480" y="1100160"/>
            <a:ext cx="9075600" cy="18432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1343160" y="3795840"/>
            <a:ext cx="6781680" cy="2266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98764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13200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5580000" y="15429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5435640" y="2060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158320" y="154296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8265960" y="2060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2916360" y="4437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2916360" y="5084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5838840" y="43941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5838840" y="504180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7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